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9F72-8BDD-48E4-843E-D52D8537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22FA-FC5A-40AC-A247-4B92D666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81C3-D7AA-4D56-B49A-714639FD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0B6-303D-464B-B6E7-820AE1B2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E903-72E4-4AB2-99D1-5973C511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6D0-AA89-4EDF-A61B-BBDB1F66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5D4-0084-407C-9D5A-FB56C38D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B59-655A-4672-BCA6-14A54456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19CC-AD38-4BF2-A06E-A3930669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ECC3-197E-402E-9016-27CCF4EB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DB20-B6E4-4850-92FA-E5D50AEA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083-C21D-43A2-B2C6-5BC31C4F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0438-C10B-42BE-9D47-7E50567E2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302080" cy="609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5867280" cy="50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782040" cy="562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562720" cy="49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81080" y="1447920"/>
            <a:ext cx="50292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52480" y="1600200"/>
            <a:ext cx="60199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Century Gothic"/>
              </a:rPr>
              <a:t>am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05120" y="1371600"/>
            <a:ext cx="60195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Century Gothic"/>
              </a:rPr>
              <a:t>the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1371600"/>
            <a:ext cx="75438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Century Gothic"/>
              </a:rPr>
              <a:t>little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676760" cy="5638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4405320" cy="609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5481360" cy="601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407120" cy="6172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2:32:22Z</dcterms:created>
  <dc:creator>Chris Mclemore</dc:creator>
  <dc:description/>
  <dc:language>en-US</dc:language>
  <cp:lastModifiedBy>Chris Mclemore</cp:lastModifiedBy>
  <dcterms:modified xsi:type="dcterms:W3CDTF">2007-09-07T04:33:43Z</dcterms:modified>
  <cp:revision>2</cp:revision>
  <dc:subject/>
  <dc:title>PowerPoint Presentation</dc:title>
</cp:coreProperties>
</file>